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9C621-A10B-48BD-B4CD-15DC7B6FB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3342F-11C8-4AE9-A4F8-1887B0F32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3B756-0CD7-4AC8-BB53-B528AE76D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84254-EFF8-4AA8-8142-1B614353F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D5B0221-104B-4889-86E3-64020FB41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6D44DB-DDC1-40B0-8EF2-BF15B1765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0B3134-85B9-4D4E-A1CF-DC8C9529C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FF1468-B4A8-46B1-B538-974445008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A89B6C-9BB9-4CAF-98B8-466F03D9D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BF61A3-E4F3-492F-8CA0-666A0B7C7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53CB26-DA8B-40D4-AAA6-C05319C99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0C5EE-E450-4E37-B35E-7BB1B0188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409B0D-C0B3-4580-A3DC-157505372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FCA730-489E-424F-A4AB-6495E0A01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3EEFE3-4436-4E2A-8BA6-0B72A9FE2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A915EE4-3FEB-483F-BDA6-5CEE0859E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1EFC19B-E764-4FE4-B46E-A026823FF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0513F-CB16-4961-8349-BCC3EFC30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5046A-CE8E-40C4-A6BE-6A8BF3874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739FC-2FE7-4CE5-8F32-5A000CC07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DC53D-3192-4389-9D73-AC4FE0EBB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84EE3-3BE0-44B1-BCA0-B2AFF0C49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07CF-22FA-491F-9947-010C1F6F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E7F2-1045-4CC3-BDB8-7CA48B56B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3C2A-5C67-42B4-984E-20FB021C975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9E45-292B-4C85-B5F3-284C19574DB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Times New Roman"/>
              </a:rPr>
              <a:t>Le Pari Opportunità</a:t>
            </a:r>
            <a:br>
              <a:rPr sz="4400"/>
            </a:br>
            <a:r>
              <a:rPr b="1" lang="en-US" sz="4000" spc="-1" strike="noStrike">
                <a:solidFill>
                  <a:srgbClr val="e3e3ff"/>
                </a:solidFill>
                <a:latin typeface="Times New Roman"/>
              </a:rPr>
              <a:t>Alisa Del Re</a:t>
            </a:r>
            <a:br>
              <a:rPr sz="4000"/>
            </a:br>
            <a:r>
              <a:rPr b="1" lang="en-US" sz="4000" spc="-1" strike="noStrike">
                <a:solidFill>
                  <a:srgbClr val="e3e3ff"/>
                </a:solidFill>
                <a:latin typeface="Times New Roman"/>
              </a:rPr>
              <a:t>Università di Padova</a:t>
            </a:r>
            <a:endParaRPr b="0" lang="en-US" sz="40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Cronologia dei diritti delle donne in Italia</a:t>
            </a:r>
            <a:endParaRPr b="0" lang="en-US" sz="5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Primo dopoguerra (dopo la seconda guerra mondiale)</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Il DLL (decreto legislativo luogotenenziale) 23/45</a:t>
            </a:r>
            <a:r>
              <a:rPr b="0" lang="it-IT" sz="2400" spc="-1" strike="noStrike">
                <a:solidFill>
                  <a:srgbClr val="ffffff"/>
                </a:solidFill>
                <a:latin typeface="Times New Roman"/>
              </a:rPr>
              <a:t> riconosce alle donne il diritto di voto. </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rt. 37 della Costituzione italiana “ </a:t>
            </a:r>
            <a:r>
              <a:rPr b="0" i="1" lang="it-IT" sz="2400" spc="-1" strike="noStrike">
                <a:solidFill>
                  <a:srgbClr val="ffffff"/>
                </a:solidFill>
                <a:latin typeface="Times New Roman"/>
              </a:rPr>
              <a:t>La donna lavoratrice ha gli stessi diritti e, a parità di lavoro, le stesse retribuzioni che spettano al lavoratore. Le condizioni di lavoro devono consentire l’adempimento della sua </a:t>
            </a:r>
            <a:r>
              <a:rPr b="1" i="1" lang="it-IT" sz="2400" spc="-1" strike="noStrike">
                <a:solidFill>
                  <a:srgbClr val="ffffff"/>
                </a:solidFill>
                <a:latin typeface="Times New Roman"/>
              </a:rPr>
              <a:t>essenziale</a:t>
            </a:r>
            <a:r>
              <a:rPr b="0" i="1" lang="it-IT" sz="2400" spc="-1" strike="noStrike">
                <a:solidFill>
                  <a:srgbClr val="ffffff"/>
                </a:solidFill>
                <a:latin typeface="Times New Roman"/>
              </a:rPr>
              <a:t> funzione familiare e assicurare alla madre e al bambino una speciale e adeguata protezione</a:t>
            </a:r>
            <a:r>
              <a:rPr b="0" lang="it-IT"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860/1950  (legge Noce) </a:t>
            </a:r>
            <a:r>
              <a:rPr b="0" lang="it-IT" sz="2400" spc="-1" strike="noStrike">
                <a:solidFill>
                  <a:srgbClr val="ffffff"/>
                </a:solidFill>
                <a:latin typeface="Times New Roman"/>
              </a:rPr>
              <a:t>sulla tutela fisica e economica della lavoratrice madre. Questa legge viene approvata dopo una lungo dibattito in Parlamento e nel paese, relatrice Maria Federici. </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986/50</a:t>
            </a:r>
            <a:r>
              <a:rPr b="0" lang="it-IT" sz="2400" spc="-1" strike="noStrike">
                <a:solidFill>
                  <a:srgbClr val="ffffff"/>
                </a:solidFill>
                <a:latin typeface="Times New Roman"/>
              </a:rPr>
              <a:t> che proibisce il licenziamento delle lavoratrici madri, gestanti e puerpere</a:t>
            </a:r>
            <a:r>
              <a:rPr b="0" lang="it-IT"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50</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Legge 741/56</a:t>
            </a:r>
            <a:r>
              <a:rPr b="0" lang="it-IT" sz="2800" spc="-1" strike="noStrike">
                <a:solidFill>
                  <a:srgbClr val="ffffff"/>
                </a:solidFill>
                <a:latin typeface="Times New Roman"/>
              </a:rPr>
              <a:t> sulla parità di remunerazione tra uomini e donne che recepisce la Convenzione ILO n. 100 del 1951)</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Legge1441/56</a:t>
            </a:r>
            <a:r>
              <a:rPr b="0" lang="it-IT" sz="2800" spc="-1" strike="noStrike">
                <a:solidFill>
                  <a:srgbClr val="ffffff"/>
                </a:solidFill>
                <a:latin typeface="Times New Roman"/>
              </a:rPr>
              <a:t> che ammette le donne nelle giurie popolari delle Corti d'Assise e come componenti dei Tribunali per minorenni.</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1957 </a:t>
            </a:r>
            <a:r>
              <a:rPr b="0" lang="it-IT" sz="2800" spc="-1" strike="noStrike">
                <a:solidFill>
                  <a:srgbClr val="ffffff"/>
                </a:solidFill>
                <a:latin typeface="Times New Roman"/>
              </a:rPr>
              <a:t>Nel trattato di Roma, che fonda il Mercato Comune Europeo, l’ articolo 119 impegna gli Stati a garantire la parità di salario alle donne. </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Legge 75/58</a:t>
            </a:r>
            <a:r>
              <a:rPr b="0" lang="it-IT" sz="2800" spc="-1" strike="noStrike">
                <a:solidFill>
                  <a:srgbClr val="ffffff"/>
                </a:solidFill>
                <a:latin typeface="Times New Roman"/>
              </a:rPr>
              <a:t> (legge Merlin) che abolisce la regolamentazione della prostituzion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60</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66/63</a:t>
            </a:r>
            <a:r>
              <a:rPr b="0" lang="en-US" sz="2800" spc="-1" strike="noStrike">
                <a:solidFill>
                  <a:srgbClr val="ffffff"/>
                </a:solidFill>
                <a:latin typeface="Times New Roman"/>
              </a:rPr>
              <a:t> che ammette le donne a tutti i pubblici uffici (compresa la magistratura) e a tutte le professioni (escluse Polizia, Guardia di Finanza e Forze Armate).</a:t>
            </a:r>
            <a:endParaRPr b="0" lang="en-US" sz="2800" spc="-1" strike="noStrike">
              <a:solidFill>
                <a:srgbClr val="ffffff"/>
              </a:solidFill>
              <a:latin typeface="Arial"/>
            </a:endParaRPr>
          </a:p>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7/63</a:t>
            </a:r>
            <a:r>
              <a:rPr b="0" lang="en-US" sz="2800" spc="-1" strike="noStrike">
                <a:solidFill>
                  <a:srgbClr val="ffffff"/>
                </a:solidFill>
                <a:latin typeface="Times New Roman"/>
              </a:rPr>
              <a:t> che vieta il licenziamento per matrimonio e la legge di modifica a quella sulla tutela delle lavoratrici madri. Questa legge rende nulle le cause di nubilato presenti nei contratti collettivi, individuali e nei regolamenti.</a:t>
            </a:r>
            <a:endParaRPr b="0" lang="en-US" sz="2800" spc="-1" strike="noStrike">
              <a:solidFill>
                <a:srgbClr val="ffffff"/>
              </a:solidFill>
              <a:latin typeface="Arial"/>
            </a:endParaRPr>
          </a:p>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389/63</a:t>
            </a:r>
            <a:r>
              <a:rPr b="0" lang="en-US" sz="2800" spc="-1" strike="noStrike">
                <a:solidFill>
                  <a:srgbClr val="ffffff"/>
                </a:solidFill>
                <a:latin typeface="Times New Roman"/>
              </a:rPr>
              <a:t> con la quale viene istituita la pensione volontaria per le casalinghe</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70</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898/70</a:t>
            </a:r>
            <a:r>
              <a:rPr b="0" lang="en-US" sz="2800" spc="-1" strike="noStrike">
                <a:solidFill>
                  <a:srgbClr val="ffffff"/>
                </a:solidFill>
                <a:latin typeface="Times New Roman"/>
              </a:rPr>
              <a:t> sullo scioglimento del matrimonio.</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300/70,</a:t>
            </a:r>
            <a:r>
              <a:rPr b="0" lang="en-US" sz="2800" spc="-1" strike="noStrike">
                <a:solidFill>
                  <a:srgbClr val="ffffff"/>
                </a:solidFill>
                <a:latin typeface="Times New Roman"/>
              </a:rPr>
              <a:t> conosciuto come Statuto dei lavoratori, anche se non si rivolge esplicitamente alle donne, vieta esplicitamente negli articoli 15 e 16 ogni atto o patto discriminatorio, sia esso individuale o collettivo. </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1044/1971</a:t>
            </a:r>
            <a:r>
              <a:rPr b="0" lang="en-US" sz="2800" spc="-1" strike="noStrike">
                <a:solidFill>
                  <a:srgbClr val="ffffff"/>
                </a:solidFill>
                <a:latin typeface="Times New Roman"/>
              </a:rPr>
              <a:t> per l'assistenza all'infanzia che prevede l'istituzione di asili-nido pubblici. </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1204/71</a:t>
            </a:r>
            <a:r>
              <a:rPr b="0" lang="en-US" sz="2800" spc="-1" strike="noStrike">
                <a:solidFill>
                  <a:srgbClr val="ffffff"/>
                </a:solidFill>
                <a:latin typeface="Times New Roman"/>
              </a:rPr>
              <a:t> di riforma della legge sulla lavoratrice madre (assicura un’efficace protezione fisica alle gestanti e contiene la salvaguardia del posto di lavoro).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70</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Legge 151/75</a:t>
            </a:r>
            <a:r>
              <a:rPr b="0" lang="it-IT" sz="2800" spc="-1" strike="noStrike">
                <a:solidFill>
                  <a:srgbClr val="ffffff"/>
                </a:solidFill>
                <a:latin typeface="Times New Roman"/>
              </a:rPr>
              <a:t> di riforma del diritto di famiglia che sanziona la parità dei coniugi (viene sostituita la “patria potestà” con la “potestà parentale”). </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Legge 405/75</a:t>
            </a:r>
            <a:r>
              <a:rPr b="0" lang="it-IT" sz="2800" spc="-1" strike="noStrike">
                <a:solidFill>
                  <a:srgbClr val="ffffff"/>
                </a:solidFill>
                <a:latin typeface="Times New Roman"/>
              </a:rPr>
              <a:t> che istituisce i Consultori familiari.</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Legge  698/75</a:t>
            </a:r>
            <a:r>
              <a:rPr b="0" lang="it-IT" sz="2800" spc="-1" strike="noStrike">
                <a:solidFill>
                  <a:srgbClr val="ffffff"/>
                </a:solidFill>
                <a:latin typeface="Times New Roman"/>
              </a:rPr>
              <a:t> sullo scioglimento delle funzioni dell’ONMI.</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Direttiva 75/117/CEE </a:t>
            </a:r>
            <a:r>
              <a:rPr b="0" lang="it-IT" sz="2800" spc="-1" strike="noStrike">
                <a:solidFill>
                  <a:srgbClr val="ffffff"/>
                </a:solidFill>
                <a:latin typeface="Times New Roman"/>
              </a:rPr>
              <a:t>che introduce il concetto di uguale retribuzione per lavori di uguale valore, viene così superato il riferimento di “stesso lavoro”. Vengono definiti criteri comuni nei sistemi di classificazione tra lavoratori e lavoratric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70</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irettiva 76/207/CEE </a:t>
            </a:r>
            <a:r>
              <a:rPr b="0" lang="it-IT" sz="2400" spc="-1" strike="noStrike">
                <a:solidFill>
                  <a:srgbClr val="ffffff"/>
                </a:solidFill>
                <a:latin typeface="Times New Roman"/>
              </a:rPr>
              <a:t>sull’attuazione del principio di parità di trattamento tra uomini e donne per quanto concerne l’accesso al lavoro, la formazione, la promozione professionale e le condizioni di lavoro. Tale principio viene attuato mediante l’assenza di discriminazioni dirette e indirette (stato matrimoniale o di famiglia).</a:t>
            </a:r>
            <a:endParaRPr b="0" lang="en-US" sz="2400" spc="-1" strike="noStrike">
              <a:solidFill>
                <a:srgbClr val="ffffff"/>
              </a:solidFill>
              <a:latin typeface="Arial"/>
            </a:endParaRPr>
          </a:p>
          <a:p>
            <a:pPr marL="301680" indent="-3016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903/77</a:t>
            </a:r>
            <a:r>
              <a:rPr b="0" lang="it-IT" sz="2400" spc="-1" strike="noStrike">
                <a:solidFill>
                  <a:srgbClr val="ffffff"/>
                </a:solidFill>
                <a:latin typeface="Times New Roman"/>
              </a:rPr>
              <a:t> sulla parità di trattamento fra uomini e donne in materia di lavoro (presentata dalla Ministro del lavoro pro-tempore Tina Anselmi). In questa legge viene sancito il divieto di discriminazione nell’accesso al lavoro, nella formazione professionale, nelle retribuzioni, nell’attribuzione delle qualifiche e delle carriere professionali. Inoltre viene preclusa qualsiasi discriminazione basata sullo stato matrimoniale, di famiglia, di gravidanza o attuato mediante meccanismi di preselezione. Promuove la parità di uomo e donna attraverso una diversa ripartizione delle responsabilità familiari tra i generi. Viene sancito il divieto di lavoro notturno per le donne solo in determinati settori e durante la gravidanz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70</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194/78</a:t>
            </a:r>
            <a:r>
              <a:rPr b="0" lang="en-US" sz="2800" spc="-1" strike="noStrike">
                <a:solidFill>
                  <a:srgbClr val="ffffff"/>
                </a:solidFill>
                <a:latin typeface="Times New Roman"/>
              </a:rPr>
              <a:t> sulla tutela sociale della maternità e sull'interruzione volontaria di gravidanza.</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rettiva 79/7/CEE</a:t>
            </a:r>
            <a:r>
              <a:rPr b="0" lang="en-US" sz="2800" spc="-1" strike="noStrike">
                <a:solidFill>
                  <a:srgbClr val="ffffff"/>
                </a:solidFill>
                <a:latin typeface="Times New Roman"/>
              </a:rPr>
              <a:t> sulla graduale attuazione del principio di parità di trattamento tra uomini e donne in materia di sicurezza sociale. Stabilisce l’eliminazione delle discriminazioni per quanto riguarda i regimi relativi a malattia, invalidità, vecchiaia, infortuni sul lavoro, malattie professionali e disoccupazi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80</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gge 121/81</a:t>
            </a:r>
            <a:r>
              <a:rPr b="0" lang="en-US" sz="3200" spc="-1" strike="noStrike">
                <a:solidFill>
                  <a:srgbClr val="ffffff"/>
                </a:solidFill>
                <a:latin typeface="Times New Roman"/>
              </a:rPr>
              <a:t> per l’ammissione delle donne nella nuova polizia di Stato.</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gge 442/81</a:t>
            </a:r>
            <a:r>
              <a:rPr b="0" lang="en-US" sz="3200" spc="-1" strike="noStrike">
                <a:solidFill>
                  <a:srgbClr val="ffffff"/>
                </a:solidFill>
                <a:latin typeface="Times New Roman"/>
              </a:rPr>
              <a:t> che abroga la rilevanza penale della causa d'onore come attenuante nei delitti.</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ccomandazione 84/ 635/ CEE </a:t>
            </a:r>
            <a:r>
              <a:rPr b="0" lang="en-US" sz="3200" spc="-1" strike="noStrike">
                <a:solidFill>
                  <a:srgbClr val="ffffff"/>
                </a:solidFill>
                <a:latin typeface="Times New Roman"/>
              </a:rPr>
              <a:t>sulla promozione di azioni positive a favore delle donne. La filosofia di questa raccomandazione è stata recepita in Italia dalla Legge 125/91 sulle azioni positiv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80</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ttiva 86/378/CEE </a:t>
            </a:r>
            <a:r>
              <a:rPr b="0" lang="en-US" sz="2400" spc="-1" strike="noStrike">
                <a:solidFill>
                  <a:srgbClr val="ffffff"/>
                </a:solidFill>
                <a:latin typeface="Times New Roman"/>
              </a:rPr>
              <a:t>sull’attuazione del principio di parità di trattamento tra uomini e donne nel settore dei regimi professionali di sicurezza sociale.</a:t>
            </a:r>
            <a:endParaRPr b="0" lang="en-US" sz="2400" spc="-1" strike="noStrike">
              <a:solidFill>
                <a:srgbClr val="ffffff"/>
              </a:solidFill>
              <a:latin typeface="Arial"/>
            </a:endParaRPr>
          </a:p>
          <a:p>
            <a:pPr marL="329040" indent="-3290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ttiva 86/613/CEE </a:t>
            </a:r>
            <a:r>
              <a:rPr b="0" lang="en-US" sz="2400" spc="-1" strike="noStrike">
                <a:solidFill>
                  <a:srgbClr val="ffffff"/>
                </a:solidFill>
                <a:latin typeface="Times New Roman"/>
              </a:rPr>
              <a:t>sull’applicazione del principio di parità tra uomini e donne che esercitano un’attività autonoma, comprese quelle del settore agricolo, nonché tutela della maternità.</a:t>
            </a:r>
            <a:endParaRPr b="0" lang="en-US" sz="2400" spc="-1" strike="noStrike">
              <a:solidFill>
                <a:srgbClr val="ffffff"/>
              </a:solidFill>
              <a:latin typeface="Arial"/>
            </a:endParaRPr>
          </a:p>
          <a:p>
            <a:pPr marL="329040" indent="-3290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gge 546/87 </a:t>
            </a:r>
            <a:r>
              <a:rPr b="0" lang="en-US" sz="2400" spc="-1" strike="noStrike">
                <a:solidFill>
                  <a:srgbClr val="ffffff"/>
                </a:solidFill>
                <a:latin typeface="Times New Roman"/>
              </a:rPr>
              <a:t>che estende  l’indennità giornaliera di gravidanza e puerperio alle lavoratrici autonome, coltivatrici dirette, mezzadre, colone, artigiane ed esercenti attività commerciali (attuando la direttiva CEE 86/613 dell’11 dicembre 1986 che recita “parità di trattamento tra uomini e donne che esercitano un’attività autonoma e tutela della maternità”).</a:t>
            </a:r>
            <a:endParaRPr b="0" lang="en-US" sz="2400" spc="-1" strike="noStrike">
              <a:solidFill>
                <a:srgbClr val="ffffff"/>
              </a:solidFill>
              <a:latin typeface="Arial"/>
            </a:endParaRPr>
          </a:p>
          <a:p>
            <a:pPr marL="329040" indent="-3290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PR 268/87 </a:t>
            </a:r>
            <a:r>
              <a:rPr b="0" lang="en-US" sz="2400" spc="-1" strike="noStrike">
                <a:solidFill>
                  <a:srgbClr val="ffffff"/>
                </a:solidFill>
                <a:latin typeface="Times New Roman"/>
              </a:rPr>
              <a:t>che contempla la costituzione dei Comitati P. O. all’interno della Pubblica Amministrazione.</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80</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gge 400/88</a:t>
            </a:r>
            <a:r>
              <a:rPr b="0" lang="en-US" sz="2400" spc="-1" strike="noStrike">
                <a:solidFill>
                  <a:srgbClr val="ffffff"/>
                </a:solidFill>
                <a:latin typeface="Times New Roman"/>
              </a:rPr>
              <a:t> sull'ordinamento della Presidenza del Consiglio conferma la Commissione pari opportunità come struttura di supporto della Presidenza sulle questioni femminili.</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gge 25/89</a:t>
            </a:r>
            <a:r>
              <a:rPr b="0" lang="en-US" sz="2400" spc="-1" strike="noStrike">
                <a:solidFill>
                  <a:srgbClr val="ffffff"/>
                </a:solidFill>
                <a:latin typeface="Times New Roman"/>
              </a:rPr>
              <a:t> che eleva a quaranta anni la data di partecipazione ai concorsi pubblici, come sollecitato dalla Commissiona nazionale di parità per consentire anche alle donne che non abbiano potuto dedicarsi ad attività lavorativa in età giovanile, perché impegnate in incombenze familiari, di inserirsi nel mondo del lavoro.</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libera 6/10/89</a:t>
            </a:r>
            <a:r>
              <a:rPr b="0" lang="en-US" sz="2400" spc="-1" strike="noStrike">
                <a:solidFill>
                  <a:srgbClr val="ffffff"/>
                </a:solidFill>
                <a:latin typeface="Times New Roman"/>
              </a:rPr>
              <a:t> del Consiglio della magistratura militare che consente alle donne l’accesso alla magistratura milit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Dall’unità d’Italia al 1900</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Times New Roman"/>
              </a:rPr>
              <a:t>Legge 4167/77</a:t>
            </a:r>
            <a:r>
              <a:rPr b="0" lang="en-US" sz="2800" spc="-1" strike="noStrike">
                <a:solidFill>
                  <a:srgbClr val="ffffff"/>
                </a:solidFill>
                <a:latin typeface="Times New Roman"/>
              </a:rPr>
              <a:t> per l’ammissione delle donne come testimoni negli atti pubblici e privati d’iniziativa di Salvatore Morelli.</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egge 295/93</a:t>
            </a:r>
            <a:r>
              <a:rPr b="0" lang="en-US" sz="2800" spc="-1" strike="noStrike">
                <a:solidFill>
                  <a:srgbClr val="ffffff"/>
                </a:solidFill>
                <a:latin typeface="Times New Roman"/>
              </a:rPr>
              <a:t> che riconosce alle donne il diritto di essere elette come probiviri nelle controversie di lavoro.</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egio decreto n. 164</a:t>
            </a:r>
            <a:r>
              <a:rPr b="0" lang="en-US" sz="2800" spc="-1" strike="noStrike">
                <a:solidFill>
                  <a:srgbClr val="ffffff"/>
                </a:solidFill>
                <a:latin typeface="Times New Roman"/>
              </a:rPr>
              <a:t> </a:t>
            </a:r>
            <a:r>
              <a:rPr b="1" lang="en-US" sz="2800" spc="-1" strike="noStrike">
                <a:solidFill>
                  <a:srgbClr val="ffffff"/>
                </a:solidFill>
                <a:latin typeface="Times New Roman"/>
              </a:rPr>
              <a:t>1898 </a:t>
            </a:r>
            <a:r>
              <a:rPr b="0" lang="en-US" sz="2800" spc="-1" strike="noStrike">
                <a:solidFill>
                  <a:srgbClr val="ffffff"/>
                </a:solidFill>
                <a:latin typeface="Times New Roman"/>
              </a:rPr>
              <a:t>che approva il testo unico della legge comunale e provinciale che rifiuta il voto amministrativo agli analfabeti, agli interdetti, agli inabilitati, ai condannati all’ergastolo, ai mendicanti e alle don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90</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Legge 979/90</a:t>
            </a:r>
            <a:r>
              <a:rPr b="0" lang="it-IT" sz="3200" spc="-1" strike="noStrike">
                <a:solidFill>
                  <a:srgbClr val="ffffff"/>
                </a:solidFill>
                <a:latin typeface="Times New Roman"/>
              </a:rPr>
              <a:t> sull’indennità di maternità per le libere professioniste (sempre in attuazione della direttiva CEE 86/613).</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Legge 379/90 </a:t>
            </a:r>
            <a:r>
              <a:rPr b="0" lang="it-IT" sz="3200" spc="-1" strike="noStrike">
                <a:solidFill>
                  <a:srgbClr val="ffffff"/>
                </a:solidFill>
                <a:latin typeface="Times New Roman"/>
              </a:rPr>
              <a:t>sulla tutela della maternità per le libere professioniste. </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Legge 164/90 </a:t>
            </a:r>
            <a:r>
              <a:rPr b="0" lang="it-IT" sz="3200" spc="-1" strike="noStrike">
                <a:solidFill>
                  <a:srgbClr val="ffffff"/>
                </a:solidFill>
                <a:latin typeface="Times New Roman"/>
              </a:rPr>
              <a:t>che va a normare la Commissione nazionale per la parità e le pari opportunità tra uomo e donna presso la Presidenza del Consiglio dei Ministri.</a:t>
            </a:r>
            <a:r>
              <a:rPr b="0" lang="it-I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90</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125/1991</a:t>
            </a:r>
            <a:r>
              <a:rPr b="0" lang="it-IT" sz="2400" spc="-1" strike="noStrike">
                <a:solidFill>
                  <a:srgbClr val="ffffff"/>
                </a:solidFill>
                <a:latin typeface="Times New Roman"/>
              </a:rPr>
              <a:t> sulle Azioni positive per la realizzazione delle pari opportunità nel campo del lavoro (viene introdotta la problematica delle discriminazioni indirette). </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166/91</a:t>
            </a:r>
            <a:r>
              <a:rPr b="0" lang="it-IT" sz="2400" spc="-1" strike="noStrike">
                <a:solidFill>
                  <a:srgbClr val="ffffff"/>
                </a:solidFill>
                <a:latin typeface="Times New Roman"/>
              </a:rPr>
              <a:t> sul trattamento economico delle lavoratrici madri dipendenti da amministrazioni pubbliche. </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215/92</a:t>
            </a:r>
            <a:r>
              <a:rPr b="0" lang="it-IT" sz="2400" spc="-1" strike="noStrike">
                <a:solidFill>
                  <a:srgbClr val="ffffff"/>
                </a:solidFill>
                <a:latin typeface="Times New Roman"/>
              </a:rPr>
              <a:t> sulle Azioni positive in favore della imprenditoria femminile.</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Trattato di Maastricht </a:t>
            </a:r>
            <a:r>
              <a:rPr b="0" lang="it-IT" sz="2400" spc="-1" strike="noStrike">
                <a:solidFill>
                  <a:srgbClr val="ffffff"/>
                </a:solidFill>
                <a:latin typeface="Times New Roman"/>
              </a:rPr>
              <a:t>all’articolo 119, modificato nell’art. 6, viene ribadito il principio di parità salariale tra lavoratori e lavoratrici. Prevede la possibilità di azioni positive limitate alla parità di retribuzione.</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irettiva 92/85/CEE </a:t>
            </a:r>
            <a:r>
              <a:rPr b="0" lang="it-IT" sz="2400" spc="-1" strike="noStrike">
                <a:solidFill>
                  <a:srgbClr val="ffffff"/>
                </a:solidFill>
                <a:latin typeface="Times New Roman"/>
              </a:rPr>
              <a:t>sul miglioramento della sicurezza e della salute sul lavoro delle lavoratrici gestanti, puerpere o in periodo di allattam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Times New Roman"/>
              </a:rPr>
              <a:t>Anni ’90</a:t>
            </a:r>
            <a:br>
              <a:rPr sz="4000"/>
            </a:br>
            <a:endParaRPr b="0" lang="en-US" sz="4400" spc="-1" strike="noStrike">
              <a:solidFill>
                <a:srgbClr val="e3e3ff"/>
              </a:solidFill>
              <a:latin typeface="Arial"/>
            </a:endParaRPr>
          </a:p>
        </p:txBody>
      </p:sp>
      <p:sp>
        <p:nvSpPr>
          <p:cNvPr id="165" name="PlaceHolder 2"/>
          <p:cNvSpPr>
            <a:spLocks noGrp="1"/>
          </p:cNvSpPr>
          <p:nvPr>
            <p:ph/>
          </p:nvPr>
        </p:nvSpPr>
        <p:spPr>
          <a:xfrm>
            <a:off x="395280" y="155736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81/93 </a:t>
            </a:r>
            <a:r>
              <a:rPr b="0" lang="en-US" sz="2800" spc="-1" strike="noStrike">
                <a:solidFill>
                  <a:srgbClr val="ffffff"/>
                </a:solidFill>
                <a:latin typeface="Times New Roman"/>
              </a:rPr>
              <a:t>in cui viene sancito l’obbligo per gli enti comunali e provinciali di stabilire norme per promuovere la presenza di entrambi i sessi nelle giunte e negli organismi collegiali, nonché negli enti, aziende e istituzioni da essi dipendenti.</a:t>
            </a:r>
            <a:br>
              <a:rPr sz="2800"/>
            </a:br>
            <a:r>
              <a:rPr b="1" lang="en-US" sz="2800" spc="-1" strike="noStrike">
                <a:solidFill>
                  <a:srgbClr val="ffffff"/>
                </a:solidFill>
                <a:latin typeface="Times New Roman"/>
              </a:rPr>
              <a:t>Legge 277/93</a:t>
            </a:r>
            <a:r>
              <a:rPr b="0" lang="en-US" sz="2800" spc="-1" strike="noStrike">
                <a:solidFill>
                  <a:srgbClr val="ffffff"/>
                </a:solidFill>
                <a:latin typeface="Times New Roman"/>
              </a:rPr>
              <a:t> per la Camera basata su collegi uninominali maggioritari per  il 75% e una quota proporzionale del 25% che prevede l'alternanza fra uomini e donne nelle liste.</a:t>
            </a:r>
            <a:br>
              <a:rPr sz="2800"/>
            </a:br>
            <a:r>
              <a:rPr b="1" lang="en-U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90</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236/93</a:t>
            </a:r>
            <a:r>
              <a:rPr b="0" lang="it-IT" sz="2400" spc="-1" strike="noStrike">
                <a:solidFill>
                  <a:srgbClr val="ffffff"/>
                </a:solidFill>
                <a:latin typeface="Times New Roman"/>
              </a:rPr>
              <a:t>, art. 6 sul vincolo, nei licenziamenti collettivi, di non effettuare espulsioni di lavoratrici in misura percentuale superiore a quella del personale femminile occupato nell’impresa delle medesime dimensioni e con interventi a favore delle lavoratrici madri durante la mobilità.</a:t>
            </a:r>
            <a:br>
              <a:rPr sz="2400"/>
            </a:br>
            <a:r>
              <a:rPr b="1" lang="it-IT" sz="2400" spc="-1" strike="noStrike">
                <a:solidFill>
                  <a:srgbClr val="ffffff"/>
                </a:solidFill>
                <a:latin typeface="Times New Roman"/>
              </a:rPr>
              <a:t>Decreto legislativo n. 29/93</a:t>
            </a:r>
            <a:r>
              <a:rPr b="0" lang="it-IT" sz="2400" spc="-1" strike="noStrike">
                <a:solidFill>
                  <a:srgbClr val="ffffff"/>
                </a:solidFill>
                <a:latin typeface="Times New Roman"/>
              </a:rPr>
              <a:t>, sulla parità e pari opportunità sia per l’accesso al lavoro sia per il trattamento sul lavoro relativamente alla gestione delle risorse umane (art.7) e sulla istituzione delle quote di donne nelle commissioni di concorso, sulla pari dignità di uomini e di donne sul lavoro e sulla partecipazione delle dipendenti delle Pubbliche amministrazioni ai corsi di formazione e di aggiornamento professionale (art. 61).</a:t>
            </a:r>
            <a:endParaRPr b="0" lang="en-US" sz="2400" spc="-1" strike="noStrike">
              <a:solidFill>
                <a:srgbClr val="ffffff"/>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90</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332/95</a:t>
            </a:r>
            <a:r>
              <a:rPr b="0" lang="it-IT" sz="2400" spc="-1" strike="noStrike">
                <a:solidFill>
                  <a:srgbClr val="ffffff"/>
                </a:solidFill>
                <a:latin typeface="Times New Roman"/>
              </a:rPr>
              <a:t>, art.5 che modifica l’art. 275, 4°c del codice di procedura penale, prevedendo il divieto di custodia cautelare in carcere di donne incinte o madri fino al compimento del terzo anno d’età del figlio.</a:t>
            </a:r>
            <a:endParaRPr b="0" lang="en-US" sz="2400" spc="-1" strike="noStrike">
              <a:solidFill>
                <a:srgbClr val="ffffff"/>
              </a:solidFill>
              <a:latin typeface="Arial"/>
            </a:endParaRPr>
          </a:p>
          <a:p>
            <a:pPr marL="335880" indent="-3358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66/96</a:t>
            </a:r>
            <a:r>
              <a:rPr b="0" lang="it-IT" sz="2400" spc="-1" strike="noStrike">
                <a:solidFill>
                  <a:srgbClr val="ffffff"/>
                </a:solidFill>
                <a:latin typeface="Times New Roman"/>
              </a:rPr>
              <a:t> sulla violenza sessuale. Essa classifica come reato contro la persona il reato di violenza sessuale (che include sia la violenza carnale vera e propria che gli atti di libidine violenti, di solito perpetrati nei confronti dei minori) così mutando la qualificazione della normativa precedente che lo definiva reato contro la morale. In tal modo viene restituita dignità alla vittima, finalmente considerata “persona”, mentre si è cercato di punire il reato in modo tale (con pena gradabile tra i tre e i cinque anni) che non fosse possibile il patteggiamento, di modo che lo stupratore non restasse sostanzialmente impuni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90</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52/96 </a:t>
            </a:r>
            <a:r>
              <a:rPr b="0" lang="it-IT" sz="2400" spc="-1" strike="noStrike">
                <a:solidFill>
                  <a:srgbClr val="ffffff"/>
                </a:solidFill>
                <a:latin typeface="Times New Roman"/>
              </a:rPr>
              <a:t>con cui viene recepita la normativa europea in tema di parità di trattamento tra uomini e donne.</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L 645/96 </a:t>
            </a:r>
            <a:r>
              <a:rPr b="0" lang="it-IT" sz="2400" spc="-1" strike="noStrike">
                <a:solidFill>
                  <a:srgbClr val="ffffff"/>
                </a:solidFill>
                <a:latin typeface="Times New Roman"/>
              </a:rPr>
              <a:t>recepisce la direttiva 92/85/CEE  sul miglioramento della sicurezza e della salute sul lavoro delle lavoratrici gestanti, puerpere o in allattamento solo per quanto riguarda la parte relativa alla salute.</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irettiva 96/34/CE</a:t>
            </a:r>
            <a:r>
              <a:rPr b="0" lang="it-IT" sz="2400" spc="-1" strike="noStrike">
                <a:solidFill>
                  <a:srgbClr val="ffffff"/>
                </a:solidFill>
                <a:latin typeface="Times New Roman"/>
              </a:rPr>
              <a:t> sui congedi parentali. È frutto del primo accordo sindacale europeo tra la Confederazione europea dei sindacati (Ces), gli imprenditori privati (Unice) e gli imprenditori pubblici (Ceep).</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ccomandazione 96/694/CE </a:t>
            </a:r>
            <a:r>
              <a:rPr b="0" lang="it-IT" sz="2400" spc="-1" strike="noStrike">
                <a:solidFill>
                  <a:srgbClr val="ffffff"/>
                </a:solidFill>
                <a:latin typeface="Times New Roman"/>
              </a:rPr>
              <a:t>che riguarda la partecipazione delle donne e degli uomini al processo decisionale.</a:t>
            </a:r>
            <a:endParaRPr b="0" lang="en-US" sz="2400" spc="-1" strike="noStrike">
              <a:solidFill>
                <a:srgbClr val="ffffff"/>
              </a:solidFill>
              <a:latin typeface="Arial"/>
            </a:endParaRPr>
          </a:p>
          <a:p>
            <a:pPr marL="308520" indent="-30852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ecreto del Ministro del Lavoro e della Previdenza sociale </a:t>
            </a:r>
            <a:r>
              <a:rPr b="0" lang="it-IT" sz="2400" spc="-1" strike="noStrike">
                <a:solidFill>
                  <a:srgbClr val="ffffff"/>
                </a:solidFill>
                <a:latin typeface="Times New Roman"/>
              </a:rPr>
              <a:t>che fornisce indicazione alle aziende in ordine alla redazione del rapporto periodico sulla situazione del personale maschile e femmin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90</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rettiva del 7 marzo 1997</a:t>
            </a:r>
            <a:r>
              <a:rPr b="0" lang="en-US" sz="2400" spc="-1" strike="noStrike">
                <a:solidFill>
                  <a:srgbClr val="ffffff"/>
                </a:solidFill>
                <a:latin typeface="Times New Roman"/>
              </a:rPr>
              <a:t> del presidente del Consiglio dei ministri On. Romano Prodi, in favore di azioni volte a promuovere l’attribuzione di poteri e responsabilità delle donne, a riconoscere e garantire libertà di scelte e qualità sociale a donne e uomini. </a:t>
            </a:r>
            <a:endParaRPr b="0" lang="en-US" sz="2400" spc="-1" strike="noStrike">
              <a:solidFill>
                <a:srgbClr val="ffffff"/>
              </a:solidFill>
              <a:latin typeface="Arial"/>
            </a:endParaRPr>
          </a:p>
          <a:p>
            <a:pPr marL="332640" indent="-3326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reto della Presidenza del Consiglio dei Ministri n. 405/97</a:t>
            </a:r>
            <a:r>
              <a:rPr b="0" lang="en-US" sz="2400" spc="-1" strike="noStrike">
                <a:solidFill>
                  <a:srgbClr val="ffffff"/>
                </a:solidFill>
                <a:latin typeface="Times New Roman"/>
              </a:rPr>
              <a:t> di istituzione ed organizzazione del Dipartimento per le Pari Opportunità nell’ambito della Presidenza del Consiglio.</a:t>
            </a:r>
            <a:endParaRPr b="0" lang="en-US" sz="2400" spc="-1" strike="noStrike">
              <a:solidFill>
                <a:srgbClr val="ffffff"/>
              </a:solidFill>
              <a:latin typeface="Arial"/>
            </a:endParaRPr>
          </a:p>
          <a:p>
            <a:pPr marL="332640" indent="-3326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reto del Ministro dell’Agricoltura</a:t>
            </a:r>
            <a:r>
              <a:rPr b="0" lang="en-US" sz="2400" spc="-1" strike="noStrike">
                <a:solidFill>
                  <a:srgbClr val="ffffff"/>
                </a:solidFill>
                <a:latin typeface="Times New Roman"/>
              </a:rPr>
              <a:t> che istituisce l’Osservatorio nazionale per l’imprenditoria femminile ed il lavoro in agricoltura.</a:t>
            </a:r>
            <a:endParaRPr b="0" lang="en-US" sz="2400" spc="-1" strike="noStrike">
              <a:solidFill>
                <a:srgbClr val="ffffff"/>
              </a:solidFill>
              <a:latin typeface="Arial"/>
            </a:endParaRPr>
          </a:p>
          <a:p>
            <a:pPr marL="332640" indent="-3326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reto del Ministro delle Pari Opportunità</a:t>
            </a:r>
            <a:r>
              <a:rPr b="0" lang="en-US" sz="2400" spc="-1" strike="noStrike">
                <a:solidFill>
                  <a:srgbClr val="ffffff"/>
                </a:solidFill>
                <a:latin typeface="Times New Roman"/>
              </a:rPr>
              <a:t> che istituisce la Commissione per la promozione e lo sviluppo dell’imprenditoria femminile e l’osservatorio per l’imprenditorialità femmin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90</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285/97 </a:t>
            </a:r>
            <a:r>
              <a:rPr b="0" lang="it-IT" sz="2400" spc="-1" strike="noStrike">
                <a:solidFill>
                  <a:srgbClr val="ffffff"/>
                </a:solidFill>
                <a:latin typeface="Times New Roman"/>
              </a:rPr>
              <a:t>sulla promozione di diritti ed opportunità per l’infanzia e l’adolescenza. Prevede servizi per l’infanzia e sostegno della relazione genitori/figli.</a:t>
            </a:r>
            <a:endParaRPr b="0" lang="en-US" sz="2400" spc="-1" strike="noStrike">
              <a:solidFill>
                <a:srgbClr val="ffffff"/>
              </a:solidFill>
              <a:latin typeface="Arial"/>
            </a:endParaRPr>
          </a:p>
          <a:p>
            <a:pPr marL="332640" indent="-3326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Trattato di Amsterdam </a:t>
            </a:r>
            <a:r>
              <a:rPr b="0" lang="it-IT" sz="2400" spc="-1" strike="noStrike">
                <a:solidFill>
                  <a:srgbClr val="ffffff"/>
                </a:solidFill>
                <a:latin typeface="Times New Roman"/>
              </a:rPr>
              <a:t>introduce importanti principi, tra cui quello della non discriminazione tra i sessi e del </a:t>
            </a:r>
            <a:r>
              <a:rPr b="0" i="1" lang="it-IT" sz="2400" spc="-1" strike="noStrike">
                <a:solidFill>
                  <a:srgbClr val="ffffff"/>
                </a:solidFill>
                <a:latin typeface="Times New Roman"/>
              </a:rPr>
              <a:t>mainstreaming.</a:t>
            </a:r>
            <a:endParaRPr b="0" lang="en-US" sz="2400" spc="-1" strike="noStrike">
              <a:solidFill>
                <a:srgbClr val="ffffff"/>
              </a:solidFill>
              <a:latin typeface="Arial"/>
            </a:endParaRPr>
          </a:p>
          <a:p>
            <a:pPr marL="332640" indent="-3326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irettiva 97/80/CE </a:t>
            </a:r>
            <a:r>
              <a:rPr b="0" lang="it-IT" sz="2400" spc="-1" strike="noStrike">
                <a:solidFill>
                  <a:srgbClr val="ffffff"/>
                </a:solidFill>
                <a:latin typeface="Times New Roman"/>
              </a:rPr>
              <a:t>in cui l’onere della prova nei casi di discriminazione basata sul sesso ricade sulla parte convenuta, nel caso in cui chi si ritiene leso abbia prodotto elementi di fatti dinanzi ad un organo competente.</a:t>
            </a:r>
            <a:endParaRPr b="0" lang="en-US" sz="2400" spc="-1" strike="noStrike">
              <a:solidFill>
                <a:srgbClr val="ffffff"/>
              </a:solidFill>
              <a:latin typeface="Arial"/>
            </a:endParaRPr>
          </a:p>
          <a:p>
            <a:pPr marL="332640" indent="-33264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irettiva 97/81/CE </a:t>
            </a:r>
            <a:r>
              <a:rPr b="0" lang="it-IT" sz="2400" spc="-1" strike="noStrike">
                <a:solidFill>
                  <a:srgbClr val="ffffff"/>
                </a:solidFill>
                <a:latin typeface="Times New Roman"/>
              </a:rPr>
              <a:t>sul lavoro part time.la direttiva recepisce l’accordo siglato dalle parti sociali Ces, Unice e Ceep. Propone di facilitare il part time su base volontaria, eliminando gli ostacoli al suo sviluppo. Migliorandone la qualità ed evitando discriminazioni per chi lavora a tempo parzia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nni ‘90</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gge 25/99 (legge comunitaria 1998). </a:t>
            </a:r>
            <a:r>
              <a:rPr b="0" lang="en-US" sz="2400" spc="-1" strike="noStrike">
                <a:solidFill>
                  <a:srgbClr val="ffffff"/>
                </a:solidFill>
                <a:latin typeface="Times New Roman"/>
              </a:rPr>
              <a:t>L’art. 17 di tale legge, al fine di adeguare la legge italiana alla sentenza della Corte di Giustizia delle Comunità europee 4 dicembre 1997, ha abrogato il divieto del lavoro notturno per le lavoratrici tessili (per le altre lavoratrici il divieto non operava già in precedenza), escludendo però comunque dalla prestazione di lavoro notturno le donne in stato di gravidanza fino ai tre anni di età del minore, ovvero le lavoratrici con disabili a carico.</a:t>
            </a:r>
            <a:endParaRPr b="0" lang="en-US" sz="2400" spc="-1" strike="noStrike">
              <a:solidFill>
                <a:srgbClr val="ffffff"/>
              </a:solidFill>
              <a:latin typeface="Arial"/>
            </a:endParaRPr>
          </a:p>
          <a:p>
            <a:pPr marL="335880" indent="-3358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gge 157/99</a:t>
            </a:r>
            <a:r>
              <a:rPr b="0" lang="en-US" sz="2400" spc="-1" strike="noStrike">
                <a:solidFill>
                  <a:srgbClr val="ffffff"/>
                </a:solidFill>
                <a:latin typeface="Times New Roman"/>
              </a:rPr>
              <a:t> in materia di rimborso delle spese elettorali. L’art. 3, comma 1 di tale legge mira  a favorire la partecipazione attiva delle donne nella vita politica, disponendo che “ogni partito o movimento politico destina una quota pari ad almeno il 5% dei rimborsi ricevuti per consultazioni elettorali ad iniziative volte ad accrescere la partecipazione attiva delle donne alla polit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1999</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gge 380/99 </a:t>
            </a:r>
            <a:r>
              <a:rPr b="0" lang="en-US" sz="3200" spc="-1" strike="noStrike">
                <a:solidFill>
                  <a:srgbClr val="ffffff"/>
                </a:solidFill>
                <a:latin typeface="Times New Roman"/>
              </a:rPr>
              <a:t>sull’istituzione del servizio militare volontario femminile e sull’accesso delle donne a tutti i ruoli, compresi quelli operativi, e consente il raggiungimento dei più alti livelli di carriera in termini di assoluta parità rispetto agli uomini.</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I primi dieci anni del secolo 1900</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Legge 242/02</a:t>
            </a:r>
            <a:r>
              <a:rPr b="0" lang="it-IT" sz="2800" spc="-1" strike="noStrike">
                <a:solidFill>
                  <a:srgbClr val="ffffff"/>
                </a:solidFill>
                <a:latin typeface="Times New Roman"/>
              </a:rPr>
              <a:t> (legge Carcano) sul lavoro delle donne e dei fanciulli. Entrerà in vigore il 1 luglio del 1903. La legge è sostenuta dal Partito socialista e da Anna Kuliscioff.</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divieto di lavoro sotterraneo</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2 ore orario massimo l’orario lavorativo</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divieto di lavoro notturno (solo per le minorenni)</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le puerpere non  potevano essere adibite al lavoro se non dopo 4 settimane dal parto (senza tutela salaria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2000</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gge 53/00</a:t>
            </a:r>
            <a:r>
              <a:rPr b="0" lang="en-US" sz="3200" spc="-1" strike="noStrike">
                <a:solidFill>
                  <a:srgbClr val="ffffff"/>
                </a:solidFill>
                <a:latin typeface="Times New Roman"/>
              </a:rPr>
              <a:t> che prevede disposizioni per il sostegno della maternità e della paternità (congedi parentali), per il diritto di cura  e per il coordinamento dei tempi delle città.</a:t>
            </a:r>
            <a:endParaRPr b="0" lang="en-US" sz="3200" spc="-1" strike="noStrike">
              <a:solidFill>
                <a:srgbClr val="ffffff"/>
              </a:solidFill>
              <a:latin typeface="Arial"/>
            </a:endParaRPr>
          </a:p>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l 196/00 </a:t>
            </a:r>
            <a:r>
              <a:rPr b="0" lang="en-US" sz="3200" spc="-1" strike="noStrike">
                <a:solidFill>
                  <a:srgbClr val="ffffff"/>
                </a:solidFill>
                <a:latin typeface="Times New Roman"/>
              </a:rPr>
              <a:t>che disciplina l’attività delle consigliere e dei consiglieri di parità e fornisce disposizioni in materia di azioni positive. Precedentemente tale materia era disciplinata dalla legge 125/91, ar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2001</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Circolare 31 del 26/01/01</a:t>
            </a:r>
            <a:r>
              <a:rPr b="0" lang="it-IT" sz="2800" spc="-1" strike="noStrike">
                <a:solidFill>
                  <a:srgbClr val="ffffff"/>
                </a:solidFill>
                <a:latin typeface="Times New Roman"/>
              </a:rPr>
              <a:t> del Ministero del Lavoro che regolamenta l’attività di vigilanza in materia di divieto di discriminazione  e pari opportunità. Vengono qui individuati i profili sanzionatori e le indicazioni operative.</a:t>
            </a:r>
            <a:endParaRPr b="0" lang="en-US" sz="2800" spc="-1" strike="noStrike">
              <a:solidFill>
                <a:srgbClr val="ffffff"/>
              </a:solidFill>
              <a:latin typeface="Arial"/>
            </a:endParaRPr>
          </a:p>
          <a:p>
            <a:pPr marL="318960" indent="-31896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Proposta della Commissione Europea del 06/06/01</a:t>
            </a:r>
            <a:r>
              <a:rPr b="0" lang="it-IT" sz="2800" spc="-1" strike="noStrike">
                <a:solidFill>
                  <a:srgbClr val="ffffff"/>
                </a:solidFill>
                <a:latin typeface="Times New Roman"/>
              </a:rPr>
              <a:t> che modifica la direttiva 76/207/CEE del Consiglio relativa all’attuazione del principio della parità di trattamento fra gli uomini e le donne per quanto riguarda l’accesso al lavoro, alla formazione e alla promozione professionali e le condizioni di lavoro. Vengono puntualizzati  i concetti di discriminazione diretta e indiretta e di molest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2002</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2003</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2004</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I primi dieci anni del secolo 1900</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D. agosto 1905</a:t>
            </a:r>
            <a:r>
              <a:rPr b="0" lang="en-US" sz="2800" spc="-1" strike="noStrike">
                <a:solidFill>
                  <a:srgbClr val="ffffff"/>
                </a:solidFill>
                <a:latin typeface="Times New Roman"/>
              </a:rPr>
              <a:t>: le donne sono ammesse all'insegnamento nelle scuole medie. </a:t>
            </a:r>
            <a:endParaRPr b="0" lang="en-US" sz="2800" spc="-1" strike="noStrike">
              <a:solidFill>
                <a:srgbClr val="ffffff"/>
              </a:solidFill>
              <a:latin typeface="Arial"/>
            </a:endParaRPr>
          </a:p>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416/07</a:t>
            </a:r>
            <a:r>
              <a:rPr b="0" lang="en-US" sz="2800" spc="-1" strike="noStrike">
                <a:solidFill>
                  <a:srgbClr val="ffffff"/>
                </a:solidFill>
                <a:latin typeface="Times New Roman"/>
              </a:rPr>
              <a:t> (Testo unico sul lavoro delle donne e dei fanciulli): divieto del lavoro notturno, derogabile, per le donne di qualsiasi età</a:t>
            </a:r>
            <a:endParaRPr b="0" lang="en-US" sz="2800" spc="-1" strike="noStrike">
              <a:solidFill>
                <a:srgbClr val="ffffff"/>
              </a:solidFill>
              <a:latin typeface="Arial"/>
            </a:endParaRPr>
          </a:p>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121/10</a:t>
            </a:r>
            <a:r>
              <a:rPr b="0" lang="en-US" sz="2800" spc="-1" strike="noStrike">
                <a:solidFill>
                  <a:srgbClr val="ffffff"/>
                </a:solidFill>
                <a:latin typeface="Times New Roman"/>
              </a:rPr>
              <a:t> che esclude le donne dall’elettorato e dall’eleggibilità per le Camere di Commercio e arti del Regno.</a:t>
            </a:r>
            <a:endParaRPr b="0" lang="en-US" sz="2800" spc="-1" strike="noStrike">
              <a:solidFill>
                <a:srgbClr val="ffffff"/>
              </a:solidFill>
              <a:latin typeface="Arial"/>
            </a:endParaRPr>
          </a:p>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520/10</a:t>
            </a:r>
            <a:r>
              <a:rPr b="0" lang="en-US" sz="2800" spc="-1" strike="noStrike">
                <a:solidFill>
                  <a:srgbClr val="ffffff"/>
                </a:solidFill>
                <a:latin typeface="Times New Roman"/>
              </a:rPr>
              <a:t> per la creazione della Cassa di maternità con sede a Rom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Dalla I guerra mondiale al fascismo</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gio decreto n. 148/15</a:t>
            </a:r>
            <a:r>
              <a:rPr b="0" lang="en-US" sz="2400" spc="-1" strike="noStrike">
                <a:solidFill>
                  <a:srgbClr val="ffffff"/>
                </a:solidFill>
                <a:latin typeface="Times New Roman"/>
              </a:rPr>
              <a:t> per l’approvazione della legge comunale e provinciale che vieta l’iscrizione delle donne nelle liste elettorali amministrative e la loro eleggibilità.</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gge 1176/19</a:t>
            </a:r>
            <a:r>
              <a:rPr b="0" lang="en-US" sz="2400" spc="-1" strike="noStrike">
                <a:solidFill>
                  <a:srgbClr val="ffffff"/>
                </a:solidFill>
                <a:latin typeface="Times New Roman"/>
              </a:rPr>
              <a:t> sull’emancipazione femminile che abolisce l'autorizzazione maritale e ammette le donne a esercitare tutte le professioni, escluse quelle che implicano poteri giurisdizionali o l’esercizio di diritti o di potestà politiche o che attengono alla difesa militare dello Stato.</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Camera dei deputati approva la legge sulla estensione del voto amministrativo e politico alle donne: per la fine della legislatura il provvedimento resta bloccato al Sen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Periodo fascista</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I regi decreti nn. 3158/23 e 3184/23</a:t>
            </a:r>
            <a:r>
              <a:rPr b="0" lang="it-IT" sz="2400" spc="-1" strike="noStrike">
                <a:solidFill>
                  <a:srgbClr val="ffffff"/>
                </a:solidFill>
                <a:latin typeface="Times New Roman"/>
              </a:rPr>
              <a:t> introducono per le persone di ambo i sessi l’assicurazione obbligatoria contro la disoccupazione involontaria e l’assicurazione obbligatoria contro l’invalidità e vecchia a 65 anni.</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D. 1054/23</a:t>
            </a:r>
            <a:r>
              <a:rPr b="0" lang="it-IT" sz="2400" spc="-1" strike="noStrike">
                <a:solidFill>
                  <a:srgbClr val="ffffff"/>
                </a:solidFill>
                <a:latin typeface="Times New Roman"/>
              </a:rPr>
              <a:t> sancisce per le donne il divieto ad essere presidi.</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2125/24</a:t>
            </a:r>
            <a:r>
              <a:rPr b="0" lang="it-IT" sz="2400" spc="-1" strike="noStrike">
                <a:solidFill>
                  <a:srgbClr val="ffffff"/>
                </a:solidFill>
                <a:latin typeface="Times New Roman"/>
              </a:rPr>
              <a:t> (legge Acerbo) prevede il voto amministrativo ad alcune categorie di donne (madri o vedove di caduti in guerra): le elezioni amministrative saranno abolite l’anno successivo per l’instaurazione del regime podestarile.</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2277/25</a:t>
            </a:r>
            <a:r>
              <a:rPr b="0" lang="it-IT" sz="2400" spc="-1" strike="noStrike">
                <a:solidFill>
                  <a:srgbClr val="ffffff"/>
                </a:solidFill>
                <a:latin typeface="Times New Roman"/>
              </a:rPr>
              <a:t> sulla protezione e assistenza alla maternità e infanzia (istituzione dell’ONM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Periodo Fascis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R. D. 2840/26</a:t>
            </a:r>
            <a:r>
              <a:rPr b="0" lang="it-IT" sz="2800" spc="-1" strike="noStrike">
                <a:solidFill>
                  <a:srgbClr val="ffffff"/>
                </a:solidFill>
                <a:latin typeface="Times New Roman"/>
              </a:rPr>
              <a:t>, </a:t>
            </a:r>
            <a:r>
              <a:rPr b="1" lang="it-IT" sz="2800" spc="-1" strike="noStrike">
                <a:solidFill>
                  <a:srgbClr val="ffffff"/>
                </a:solidFill>
                <a:latin typeface="Times New Roman"/>
              </a:rPr>
              <a:t> </a:t>
            </a:r>
            <a:r>
              <a:rPr b="0" lang="it-IT" sz="2800" spc="-1" strike="noStrike">
                <a:solidFill>
                  <a:srgbClr val="ffffff"/>
                </a:solidFill>
                <a:latin typeface="Times New Roman"/>
              </a:rPr>
              <a:t>regolamento sulla legge 1176/19  in deroga ad essa, esclude le donne dalle cattedre di lettere italiane e latine, latine e greche, storia e filosofia, storia e economia politica nei licei.</a:t>
            </a:r>
            <a:endParaRPr b="0" lang="en-US" sz="2800" spc="-1" strike="noStrike">
              <a:solidFill>
                <a:srgbClr val="ffffff"/>
              </a:solidFill>
              <a:latin typeface="Arial"/>
            </a:endParaRPr>
          </a:p>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1927 </a:t>
            </a:r>
            <a:r>
              <a:rPr b="0" lang="it-IT" sz="2800" spc="-1" strike="noStrike">
                <a:solidFill>
                  <a:srgbClr val="ffffff"/>
                </a:solidFill>
                <a:latin typeface="Times New Roman"/>
              </a:rPr>
              <a:t>Il salario femminile è fissato al 50% di quello maschile</a:t>
            </a:r>
            <a:endParaRPr b="0" lang="en-US" sz="2800" spc="-1" strike="noStrike">
              <a:solidFill>
                <a:srgbClr val="ffffff"/>
              </a:solidFill>
              <a:latin typeface="Arial"/>
            </a:endParaRPr>
          </a:p>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Legge 850/29</a:t>
            </a:r>
            <a:r>
              <a:rPr b="0" lang="it-IT" sz="2800" spc="-1" strike="noStrike">
                <a:solidFill>
                  <a:srgbClr val="ffffff"/>
                </a:solidFill>
                <a:latin typeface="Times New Roman"/>
              </a:rPr>
              <a:t> per la tutela di operaie e impiegate durante lo stato di gravidanza e puerperio.</a:t>
            </a:r>
            <a:endParaRPr b="0" lang="en-US" sz="2800" spc="-1" strike="noStrike">
              <a:solidFill>
                <a:srgbClr val="ffffff"/>
              </a:solidFill>
              <a:latin typeface="Arial"/>
            </a:endParaRPr>
          </a:p>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Legge 847/29</a:t>
            </a:r>
            <a:r>
              <a:rPr b="0" lang="it-IT" sz="2800" spc="-1" strike="noStrike">
                <a:solidFill>
                  <a:srgbClr val="ffffff"/>
                </a:solidFill>
                <a:latin typeface="Times New Roman"/>
              </a:rPr>
              <a:t> introduce il matrimonio cattolico concordatario.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Periodo fascista</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930 </a:t>
            </a:r>
            <a:r>
              <a:rPr b="0" lang="en-US" sz="2800" spc="-1" strike="noStrike">
                <a:solidFill>
                  <a:srgbClr val="ffffff"/>
                </a:solidFill>
                <a:latin typeface="Times New Roman"/>
              </a:rPr>
              <a:t>Viene promulgato il Codice penale che configura il delitto per causa d’onore.</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gio decreto legge n. 1554/33</a:t>
            </a:r>
            <a:r>
              <a:rPr b="0" lang="en-US" sz="2800" spc="-1" strike="noStrike">
                <a:solidFill>
                  <a:srgbClr val="ffffff"/>
                </a:solidFill>
                <a:latin typeface="Times New Roman"/>
              </a:rPr>
              <a:t> autorizza le amministrazioni statali a escludere o stabilire limiti per l'ammissione delle donne nei concorsi pubblici.</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gio decreto n. 383/34</a:t>
            </a:r>
            <a:r>
              <a:rPr b="0" lang="en-US" sz="2800" spc="-1" strike="noStrike">
                <a:solidFill>
                  <a:srgbClr val="ffffff"/>
                </a:solidFill>
                <a:latin typeface="Times New Roman"/>
              </a:rPr>
              <a:t> che approva il testo unico della legge comunale e provinciale che esclude le donne dagli uffici di podestà e da altre cariche (dai bandi di concorso della pubblica amministrazione).</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gge 653/34</a:t>
            </a:r>
            <a:r>
              <a:rPr b="0" lang="en-US" sz="2800" spc="-1" strike="noStrike">
                <a:solidFill>
                  <a:srgbClr val="ffffff"/>
                </a:solidFill>
                <a:latin typeface="Times New Roman"/>
              </a:rPr>
              <a:t> (Tutela della lavoratrice madre e della sua maternità) vieta l’utilizzazione di manodopera femminile in mansioni pesanti o insalubr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Periodo fascista</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gge 1347/34</a:t>
            </a:r>
            <a:r>
              <a:rPr b="0" lang="it-IT" sz="2400" spc="-1" strike="noStrike">
                <a:solidFill>
                  <a:srgbClr val="ffffff"/>
                </a:solidFill>
                <a:latin typeface="Times New Roman"/>
              </a:rPr>
              <a:t> (Tutela della lavoratrice madre e della sua maternità) istituisce il congedo di maternità obbligatorio coperto da sussidio e obbligo per le aziende con più di 50 dipendenti di disporre camere per l’allattamento.</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ecreto legge n. 1514/38</a:t>
            </a:r>
            <a:r>
              <a:rPr b="0" lang="it-IT" sz="2400" spc="-1" strike="noStrike">
                <a:solidFill>
                  <a:srgbClr val="ffffff"/>
                </a:solidFill>
                <a:latin typeface="Times New Roman"/>
              </a:rPr>
              <a:t> che stabilisce che l'assunzione delle donne negli uffici pubblici sia limitata al 10% degli organici o meno.</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1938</a:t>
            </a:r>
            <a:r>
              <a:rPr b="0" lang="it-IT" sz="2400" spc="-1" strike="noStrike">
                <a:solidFill>
                  <a:srgbClr val="ffffff"/>
                </a:solidFill>
                <a:latin typeface="Times New Roman"/>
              </a:rPr>
              <a:t> Vengono emanate le leggi sulla difesa della razza che fra l'altro vietano i matrimoni con appartenenti a razze non ariane (</a:t>
            </a:r>
            <a:r>
              <a:rPr b="1" lang="it-IT" sz="2400" spc="-1" strike="noStrike">
                <a:solidFill>
                  <a:srgbClr val="ffffff"/>
                </a:solidFill>
                <a:latin typeface="Times New Roman"/>
              </a:rPr>
              <a:t>D. L. n. 1729/38</a:t>
            </a:r>
            <a:r>
              <a:rPr b="0" lang="it-IT"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egio decreto n. 989/39</a:t>
            </a:r>
            <a:r>
              <a:rPr b="0" lang="it-IT" sz="2400" spc="-1" strike="noStrike">
                <a:solidFill>
                  <a:srgbClr val="ffffff"/>
                </a:solidFill>
                <a:latin typeface="Times New Roman"/>
              </a:rPr>
              <a:t> che stabilisce una tipologia di mansioni per il personale femminile nell’impiego pubblico e priv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0:44:33Z</dcterms:created>
  <dc:creator>Alisa Del Re</dc:creator>
  <dc:description/>
  <dc:language>en-US</dc:language>
  <cp:lastModifiedBy>M.I.U.R.</cp:lastModifiedBy>
  <dcterms:modified xsi:type="dcterms:W3CDTF">2007-03-21T14:22:44Z</dcterms:modified>
  <cp:revision>15</cp:revision>
  <dc:subject/>
  <dc:title>Le Pari Opportunità Alisa Del Re Università di Padova</dc:title>
</cp:coreProperties>
</file>